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15FC3-F6EE-4785-B53C-16D4092BB9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9F0-A73B-4F03-8C9E-29CBCC98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39D-837C-4512-9733-52DB9A9A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CC8-E8EA-41D2-98F2-5FC9700A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5D7-4411-49E8-AD9A-B151EA18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080-FE67-4C09-AECD-45E230EE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2FD-2573-44C0-B996-158B839C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C37-A0C5-49A4-B359-2B186358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C65-6C4B-43F2-AECE-1F06AE9B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2312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A62-6952-4A53-92E8-0CB0A5FD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229-79C9-4E13-8720-32875F23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7D5-1C8E-4E1D-AA11-E987C268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7A6-DA79-4A07-A720-B5609A11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382EF-300F-4E1E-A41C-1410C345DA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785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peterverdonedesigns.com/files/hydraulic%20system%20theory.pdf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7636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HIDRÁU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221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es.wikipedia.org/wiki/Hidrau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9720" y="4941720"/>
            <a:ext cx="6921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engineeringtoolbox.com/bernouilli-equation-d_183.htm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ple hydraul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141720"/>
            <a:ext cx="813744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ce = pressure x surfac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ure in this system = 100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ce on APPLY piston = 100pascal x 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10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ce on OUTPUT piston = 100pascal x 4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40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19162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6160" y="19162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19162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6160" y="227664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4720" y="227664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421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Y 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1413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 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0720" y="3240000"/>
            <a:ext cx="468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2968560"/>
            <a:ext cx="181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5400720" cy="4416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588000" y="1052640"/>
            <a:ext cx="208764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fluid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mp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valv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ervoir or s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put device or act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36036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LU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1979640"/>
            <a:ext cx="33829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ÍQU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e comprime bajo 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quiere la forma del contene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cará una situación de equilib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160720"/>
            <a:ext cx="2340000" cy="17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 comprime al someterle a 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0360" y="1260360"/>
            <a:ext cx="180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00720" y="1254240"/>
            <a:ext cx="720720" cy="552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900000"/>
            <a:ext cx="1260360" cy="90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3419640"/>
            <a:ext cx="1260720" cy="12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9640" y="539640"/>
            <a:ext cx="288000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TÁ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o fluy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24360" y="4869000"/>
            <a:ext cx="29149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NÁ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Fluj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79640" y="6300720"/>
            <a:ext cx="181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2636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N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IÓN DE VA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CO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NTO DE FLUI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PACIDAD DE LUBR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ENCIA A LA OXI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2636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IO DE PAS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1619280"/>
            <a:ext cx="828036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resión aplicada a un fluido confinado se transmite íntegramente en todas las direcciones y ejerce fuerzas iguales sobre áreas iguales, actuando estas fuerzas normalmente a las paredes del recip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40360" y="2879640"/>
            <a:ext cx="4319280" cy="324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9640" y="3632040"/>
                <a:ext cx="3240360" cy="19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3960"/>
            <a:ext cx="82296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cuación de Bernouill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417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/2 + P/ρ + g.h = consta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4581360"/>
            <a:ext cx="770580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 = velocidad fl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 = presión (en un punt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ρ = den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 = grav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 = a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1120" y="1260000"/>
            <a:ext cx="822960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3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 un fluido ideal (sin viscosidad ni rozamiento) en régimen de circulación por un conducto cerrado, su energía permanece constante a lo largo de su recorrido. La energía de un fluido en cualquier momento consta de tr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nético: es la energía debida a la velocidad que posea el fl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tencial gravitacional: es la energía debido a la altitud que un fluido pos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ía de flujo: es la energía que un fluido contiene debido a la presión que pose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4292640"/>
            <a:ext cx="50626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ía cinétic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presión + potencial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 Con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y de continu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agine a hose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mount of water entering it must the same as the amount leaving it. To keep this true, if the hose become narrower the water must speed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 area x velocity = output area x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as the area decreases the velocity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w of continu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ying Bertoulli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1337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/2 + P/ρ + g.h = const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ρ + g.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constant in both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508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 + P (input) = 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 + P (outpu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refore where velocity increases, P (pressure at a point) must decrease. Ie. When the area is sma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948360" y="1700280"/>
            <a:ext cx="219564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 = flow spee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 =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ρ =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 =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 =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ρ.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6280"/>
            <a:ext cx="7272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 + P/ρ + g.h = consta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341360"/>
            <a:ext cx="727236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.g + P/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h = constant  (1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ead of Flow (divide by gravity)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068640"/>
            <a:ext cx="727236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ρ.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 = 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ynam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4941720"/>
            <a:ext cx="7272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ρ.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 +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ρ.v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2 +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a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21360"/>
            <a:ext cx="86756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ynamic Pressure + static pressure is cons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0360" y="1376280"/>
            <a:ext cx="4319640" cy="41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ple hydraul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49440" y="1521000"/>
            <a:ext cx="3447720" cy="3485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859280" y="1440000"/>
            <a:ext cx="382752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c Pressure (P)= pressure at a certain point in a liquid. It is the force per unit area applied in a directin perpendicular to the surface of an object. N/m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sure = Force/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 Units  = Newtons/meter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 Units  = Pa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ce = Pressure X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ydraulic systems can be used to gain mechanical advantage. i.e do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440000"/>
            <a:ext cx="1800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y piston (input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89440" y="900000"/>
            <a:ext cx="180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1440000"/>
            <a:ext cx="900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0360" y="5759280"/>
            <a:ext cx="43196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ure applied to an ideal liquid is tranmitted through it in all directions equ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cky</dc:creator>
  <dc:description/>
  <dc:language>en-US</dc:language>
  <cp:lastModifiedBy>Tony Lashley</cp:lastModifiedBy>
  <cp:revision>0</cp:revision>
  <dc:subject/>
  <dc:title>http://www.peterverdonedesigns.com/files/hydraulic%20system%20theory.pdf  </dc:title>
</cp:coreProperties>
</file>